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5574-158F-4371-90FA-A6059360B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780A-CF03-40DD-8173-4A234FB5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C21F-8F40-482A-B553-7ED45A903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EAC7-1AB5-45E2-86E8-DC388C440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30C8-B182-4AD3-B79E-726795D9B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C56E-644D-41F1-8B2C-9740E16B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86F1-115E-4979-9CC0-CCFAB57E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D36E-CD67-46EC-B88A-21C2D947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ED67-3226-4E97-9762-A8D7B87A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ED39-692B-4D23-B0AB-0EAF88FA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069E-2A0B-4BE9-8602-5B2C361F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68FB-4E2C-4428-93D6-EF5542C4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6F9E-AE95-423B-983B-A0814E1E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79A2-933B-49A2-A6D6-DC6110EE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58D6-A19D-4FBA-AC49-462FD0B8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8873-0EE0-48E6-9C91-BCE3CAB29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D49A-6524-47AF-A358-21D92965A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3F83-C8B0-4BB7-B025-F0C6F298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F557-C322-4E00-A041-439A5569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C8EE-F48B-45C1-BD65-71F1060C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0B56-7CAD-4718-A8B9-9645CED6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3885-0808-4185-9B25-7741E394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3360-91AF-4E91-B6ED-0BD38EA4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6131-0107-4AB6-AD99-76078995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CE1E-C2DB-44CC-AEC9-616B192D149C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C3F9-03B8-4A6D-A448-854E45196600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37636;&#35069;&#30340;&#32882;&#38899;" TargetMode="External"/><Relationship Id="rId3" Type="http://schemas.microsoft.com/office/2007/relationships/media" Target="file:///tmp/home/.config/libreoffice/4/user/gallery/&#37636;&#35069;&#30340;&#32882;&#38899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37636;&#35069;&#30340;&#32882;&#38899;" TargetMode="External"/><Relationship Id="rId3" Type="http://schemas.microsoft.com/office/2007/relationships/media" Target="file:///tmp/home/.config/libreoffice/4/user/gallery/&#37636;&#35069;&#30340;&#32882;&#38899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37636;&#35069;&#30340;&#32882;&#38899;" TargetMode="External"/><Relationship Id="rId3" Type="http://schemas.microsoft.com/office/2007/relationships/media" Target="file:///tmp/home/.config/libreoffice/4/user/gallery/&#37636;&#35069;&#30340;&#32882;&#38899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37636;&#35069;&#30340;&#32882;&#38899;" TargetMode="External"/><Relationship Id="rId3" Type="http://schemas.microsoft.com/office/2007/relationships/media" Target="file:///tmp/home/.config/libreoffice/4/user/gallery/&#37636;&#35069;&#30340;&#32882;&#38899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37636;&#35069;&#30340;&#32882;&#38899;" TargetMode="External"/><Relationship Id="rId3" Type="http://schemas.microsoft.com/office/2007/relationships/media" Target="file:///tmp/home/.config/libreoffice/4/user/gallery/&#37636;&#35069;&#30340;&#32882;&#38899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37636;&#35069;&#30340;&#32882;&#38899;" TargetMode="External"/><Relationship Id="rId3" Type="http://schemas.microsoft.com/office/2007/relationships/media" Target="file:///tmp/home/.config/libreoffice/4/user/gallery/&#37636;&#35069;&#30340;&#32882;&#38899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680840"/>
            <a:ext cx="777240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Tahoma"/>
              </a:rPr>
              <a:t>Chapter 8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nline reference tool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ctionaries and thesaurus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nolingual dictiona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ic dictiona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000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saurus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Thesauruses are more suited to the intermediate and advanced levels than to the elementary or pre-intermediat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It can encourage learners to be more adventurous in their creative wri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27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000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5ffff"/>
                </a:solidFill>
                <a:latin typeface="Tahoma"/>
              </a:rPr>
              <a:t>Concordancers and corpuses for language analysi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Concordancers</a:t>
            </a:r>
            <a:r>
              <a:rPr b="0" lang="zh-TW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similar to a search eng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Corpuses</a:t>
            </a:r>
            <a:r>
              <a:rPr b="0" lang="zh-TW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compiled from a variety of sources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1708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55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se in the clas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st material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loze test or exam practice materia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s: “what’s the difference between glisten and glitter?”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72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53000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ranslators for language analysi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intermediate translation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cyclopedias for research and project work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llection of volu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D-R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ection of websi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24400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9500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15:12:20Z</dcterms:created>
  <dc:creator>Sean Tsui</dc:creator>
  <dc:description/>
  <dc:language>en-US</dc:language>
  <cp:lastModifiedBy>Sean Tsui</cp:lastModifiedBy>
  <dcterms:modified xsi:type="dcterms:W3CDTF">2009-07-01T16:24:00Z</dcterms:modified>
  <cp:revision>6</cp:revision>
  <dc:subject/>
  <dc:title>Chapter 8  </dc:title>
</cp:coreProperties>
</file>