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CD9-804B-4A72-AFE6-22BAC643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0BE-680B-4359-8A15-CE399328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988-B04B-40D8-94F4-0962FF7A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86A-F44C-4BE8-985B-DE7C12B3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7EFB-85E0-40A2-B7CF-B433EE27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7C90-A959-4DBB-AD08-02EED2A6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34A3-F358-47BB-9A9B-D1038470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5017-650B-49B8-A536-7A4E1B2E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AF60-5BB5-4B69-B1C5-7CF2E43C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D358-DD37-4BF9-97C5-4E91B3F1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ADF5-2F16-4058-8462-21284F25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CF4-9A94-46C6-B9CC-9457737E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1229-BB6A-4703-B9C1-7CF29509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7F4D-6150-4459-A7FA-AFD2DFD9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EB20-0D75-427D-8E86-93CEEB31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4798-FB45-4A43-B2FF-89F781A1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4C26-8755-4F41-B2DC-1E48E405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3EB-B44F-4F00-8624-98D14968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33E-F8A8-444B-B2B0-148187DB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44C-EB6A-4279-969C-2340D237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637-F53F-4332-B6A4-FC633842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1639-71AD-4EF9-A969-87DB6B88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B49-3253-46B4-BD31-E55BA050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D90-8333-434E-AC0F-4843EC96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BACE-8B79-4594-8BD5-9EEFCC316301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5144-C27A-40F8-B39F-23FF5954FD2F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680840"/>
            <a:ext cx="77724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Chapter 8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line reference too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ctionaries and thesau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olingual diction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ic diction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sau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Thesauruses are more suited to the intermediate and advanced levels than to the elementary or pre-intermediat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It can encourage learners to be more adventurous in their creative wr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5ffff"/>
                </a:solidFill>
                <a:latin typeface="Tahoma"/>
              </a:rPr>
              <a:t>Concordancers and corpuses for language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Concordancers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similar to a search eng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Corpuses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compiled from a variety of source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5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se in the cla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materia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loze test or exam practice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: “what’s the difference between glisten and glitter?”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3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ranslators for language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ntermediate translatio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yclopedias for research and project work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llection of volu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D-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 of webs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12:20Z</dcterms:created>
  <dc:creator>Sean Tsui</dc:creator>
  <dc:description/>
  <dc:language>en-US</dc:language>
  <cp:lastModifiedBy>Sean Tsui</cp:lastModifiedBy>
  <dcterms:modified xsi:type="dcterms:W3CDTF">2009-07-01T16:24:00Z</dcterms:modified>
  <cp:revision>6</cp:revision>
  <dc:subject/>
  <dc:title>Chapter 8  </dc:title>
</cp:coreProperties>
</file>