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A58-E2DF-43C8-A0B8-DAFA65EB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FC5-ADCE-4377-B6AA-F2978977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FCA-4914-4BB4-8077-8E080DAC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397-BF1D-4525-BC33-AC1BDE64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9742-F1AB-4979-96EE-E86478AD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5743-1BF7-4D61-9BED-9F3BBF7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D491-A64B-46F3-8345-2584BA5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4B83-DBF7-4334-8DDC-A7D759A8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3427-1204-4AC6-9D81-C6458B33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1DB3-12BE-421C-A40F-E63C413C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F44A-930F-4848-A131-7D3D2CA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EF9-4FA5-4D50-AC01-B5DE051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36EE-5D01-4936-9DBF-3DBEF37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F61D-FA24-450E-9B54-59A1C2B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51F-CE4A-4A26-9F92-0F4EC432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81F6-620E-4774-87E4-8316869E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990A-2573-47EE-97D5-5738EF89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162-1616-45ED-8B79-11D59638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1A5-FB9A-4F36-93A2-DF93E4B8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E7C-1AE6-4457-9284-8CCB9B8A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E99-2E8F-4C5C-A093-9DBB6915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060-D284-4521-A30A-52419460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684-153E-4D56-8EFE-5000C9B7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22E-3CB7-4485-8793-F9BAE86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26D5-2A95-4AE4-A01A-F54B3F83125F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943C-FEE7-4D4B-B787-4C15A8E2B97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8084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hapter 8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line reference too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ctionaries and 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olingual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Thesauruses are more suited to the intermediate and advanced levels than to the elementary or pre-intermediat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It can encourage learners to be more adventurous in their creative 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5ffff"/>
                </a:solidFill>
                <a:latin typeface="Tahoma"/>
              </a:rPr>
              <a:t>Concordancers and corpuse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ncordancer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similar to a search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rpuse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compiled from a variety of source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in the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materia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oze test or exam practice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 “what’s the difference between glisten and glitter?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3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anslator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ermediate transla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yclopedias for research and project work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llection of volu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 of web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12:20Z</dcterms:created>
  <dc:creator>Sean Tsui</dc:creator>
  <dc:description/>
  <dc:language>en-US</dc:language>
  <cp:lastModifiedBy>Sean Tsui</cp:lastModifiedBy>
  <dcterms:modified xsi:type="dcterms:W3CDTF">2009-07-01T16:24:00Z</dcterms:modified>
  <cp:revision>6</cp:revision>
  <dc:subject/>
  <dc:title>Chapter 8  </dc:title>
</cp:coreProperties>
</file>