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1A90-6843-4BAE-979B-2376F714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3D82-0C6B-4D47-A4F4-1262B5DD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02D-B9DB-4DA2-BDC1-BA9736A7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CAF-D193-47B6-BE4F-F9068C83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FC46-2129-4D5B-B635-A7A314AE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6925-B0B1-4EC4-A695-BCADC4F5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1BB7-4213-46EF-8820-2FC7C404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E12A-6033-4EBC-81D0-CC891DD0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C4D5-0450-4068-9CD5-C8C38274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E77C-E8A6-47CB-8D56-39F984AC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048A-AC26-4EA3-AD89-A1F3D1B7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86B-4192-4ADC-87AF-3964036B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5EAB-72F8-4B52-9537-B96980A4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7834-EE57-42D5-ACE0-DF1E9948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D763-25A9-4FEC-B50D-CA127E7C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5D92-6834-4FA9-90DF-01CDF5DF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DBAB-2EF1-4F6B-BDD3-54F2C20C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D20-0D2E-4975-9B43-38CEC6F0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68A-0129-4E09-82EE-754C25DB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AC0-9EC3-41D8-B02A-25FCFC83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D469-6068-4C2E-9BBE-3F8739BE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8FA-E6BB-4FCF-B9D9-649091F4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772A-9687-4560-8005-F149D6D3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DF3E-29E5-49A4-A73A-F22DEF57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A6E0-D274-492E-BF02-3A49203CF719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8D24-30DB-480A-A7A0-031F4730312B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&#37636;&#35069;&#30340;&#32882;&#38899;" TargetMode="External"/><Relationship Id="rId3" Type="http://schemas.microsoft.com/office/2007/relationships/media" Target="file:///tmp/home/.config/libreoffice/4/user/gallery/&#37636;&#35069;&#30340;&#32882;&#38899;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680840"/>
            <a:ext cx="77724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</a:rPr>
              <a:t>Chapter 8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nline reference too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ctionaries and thesauru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olingual diction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ronic diction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sauru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Thesauruses are more suited to the intermediate and advanced levels than to the elementary or pre-intermediat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It can encourage learners to be more adventurous in their creative wr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5ffff"/>
                </a:solidFill>
                <a:latin typeface="Tahoma"/>
              </a:rPr>
              <a:t>Concordancers and corpuses for language analys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Concordancers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similar to a search eng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Corpuses</a:t>
            </a:r>
            <a:r>
              <a:rPr b="0" lang="zh-TW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3200" spc="-1" strike="noStrike">
                <a:solidFill>
                  <a:srgbClr val="ffffff"/>
                </a:solidFill>
                <a:latin typeface="Tahoma"/>
              </a:rPr>
              <a:t> compiled from a variety of sources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1708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55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se in the clas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material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loze test or exam practice materi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: “what’s the difference between glisten and glitter?”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3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ranslators for language analysi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intermediate translation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cyclopedias for research and project work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llection of volu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D-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 of webs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95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5:12:20Z</dcterms:created>
  <dc:creator>Sean Tsui</dc:creator>
  <dc:description/>
  <dc:language>en-US</dc:language>
  <cp:lastModifiedBy>Sean Tsui</cp:lastModifiedBy>
  <dcterms:modified xsi:type="dcterms:W3CDTF">2009-07-01T16:24:00Z</dcterms:modified>
  <cp:revision>6</cp:revision>
  <dc:subject/>
  <dc:title>Chapter 8  </dc:title>
</cp:coreProperties>
</file>