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2996-2CC2-4E62-A9A4-591762BA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3C9B-6327-4CEC-B76A-84563E07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94AF-8262-40D3-98F7-191A97DB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C09-904E-4477-BC2D-CE86253F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5220-3A7B-4F2E-B3F5-96FF5BFC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5BBC-C120-4E4A-AF7E-6791196D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3518-6CC6-4114-9058-8CAF2DBB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0E8A-D78E-4AD7-89A3-F44D0E24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5414-6F14-4B75-AC33-FB2EF8CC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F3C3-EB50-494E-8D48-B02E2EA1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43B4-4B83-41B6-AC41-81153892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1B0-1C66-4EBD-BC4A-BC1BB994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A6E2-9E6A-41D1-8E22-E17C7278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7082-EBAD-4E10-A665-828A8C3B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F195-8035-40FB-A895-364AE24A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120C-9FB3-4640-B256-95C1E30A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58C0-3D51-41F9-AC72-00485665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BB5-D85C-4A90-85C8-94297F7E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57E-7A31-4836-BDF3-4BF32EDC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1741-FA37-46CB-9A46-761FB752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9BD-B1EC-44A0-94FC-3B5ADE78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A336-7D66-4C97-AFC7-31BE2E1F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DBD-CFE6-4D98-B03A-BCE899E2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113-408D-4C9D-8EC0-E18EC076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E68B-1F4C-436D-8BD3-EE6BD2891D1E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517C-A0C8-4372-895E-2D83AFAE4681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24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: AEN095112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崔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指導老師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趙惠雀 教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00000" y="692280"/>
            <a:ext cx="583272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領導統御與人際經營</a:t>
            </a: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---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軍訓期末報告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50028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6600"/>
                </a:solidFill>
                <a:latin typeface="Arial"/>
                <a:ea typeface="標楷體"/>
              </a:rPr>
              <a:t>精妙溝通技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引言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溝通，是一門藝術。人人需要，卻很少有人能精通此道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黑格爾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一個人不懂得消化的規律照樣可以吃飯，但是如果懂，他可以吃得更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亞里士多德：一個生活在社會之外的人，同人不發生關係的人，不是動物就是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第一篇</a:t>
            </a: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---</a:t>
            </a: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培養溝通的理性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理性溝通的基本原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平等原則：平等待人是建立良好的人際關係的前提和基礎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美國艾森豪威爾將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信用原則：恪守信用，不僅是溝通的一個重要原則，更是做人的根基。孔子說：人而無信，不知其可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「季札掛劍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培養自信心：任何成功者都離不開自信，要培養自信心，就要明察自己的長處和短處。找出長處，利用自我擴大法，變成足以自豪的優點，縮短和對方的心理距離，就能增加自信心。同樣的，善於發現自己的短處，並以頑強的毅力加以克服，也可達到同樣的效果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美國總統羅斯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-53172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溝通的風度和魅力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風度：一個人的性格和氣質的外在表現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身體動作的風度：「坐如鐘， 站如松， 行如風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穿著打扮的風度：「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」著裝原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ime 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時間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 O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Object 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對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  P: Place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地點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魅力：一個人所具有的吸引人的力量。亞里士多德曾說，漂亮比一封介紹信更有推薦力。但是外表的漂亮並不是絕對，而一個人的內在素質有時候會影響他的外貌。正所謂「情人眼裡出西施」人與人之間內在素質的吸引力往往比外表的吸引力更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第二篇</a:t>
            </a: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---</a:t>
            </a: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改變命運的技巧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如何在溝通時獲取對方的好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廣記姓名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美國一位學者曾說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「一種既簡單但又最重要的獲得好感的方法，就是牢記別人的姓名。」善於記住別人的姓名，既是一種禮貌，又是一種情感投資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尊重他人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要做到尊重他人，首先必須平等地對待每一個人。心理學研究，人都有友愛和受尊敬的欲望，交友和受尊重的希望都非常強烈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英國戲劇家蕭伯納與蘇聯小姑娘的故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寬以待人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中國有句老話「嚴以律己，寬以待人」在溝通中，我們對他人的錯誤態度採取寬容的態度，也是取得他人好感的一條途徑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不輕下斷語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發明家愛迪生曾說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「有許多事，在我開始時以為是對的，可是經過實驗證明後又發現它錯了。所以任何一件事，最忌先有成見和主觀意識太強，必須慎思明辨，一但發現了錯誤，馬上把它改正過來。」這句話也告訴我們，不論遇到任何事情都不要忙著下定論，多進行一些思考，將會更容易贏得他人的好感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與人為善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在日常生活中，樂於與人為善的人，總是更能得到人們的好感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項羽與劉邦的成敗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560" y="249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 for your attention!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8:12:38Z</dcterms:created>
  <dc:creator>Sean Tsui</dc:creator>
  <dc:description/>
  <dc:language>en-US</dc:language>
  <cp:lastModifiedBy>Sean Tsui</cp:lastModifiedBy>
  <dcterms:modified xsi:type="dcterms:W3CDTF">2009-06-11T06:16:27Z</dcterms:modified>
  <cp:revision>44</cp:revision>
  <dc:subject/>
  <dc:title>投影片 1</dc:title>
</cp:coreProperties>
</file>