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67B7-47C1-4A15-B41C-E6962124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355-A382-48D7-99D0-FB205B5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FB1-34B6-45A9-ABAE-9879250E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3E4-C057-4BE2-82CB-A58B89D8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42D1-7FB4-4F0F-8BB1-1E2EFE07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B194-7789-4C4C-9957-0F29B71C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09D7-51EB-4827-ABF6-1C89FB7E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745D-EB9D-49CE-B1F5-D085BF88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4182-77FE-4B6D-B610-4C3C1C1E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945-0FA6-4CA8-AEF7-5FFAE391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57A4-6618-41EF-A6DC-05DD44E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112-5784-472F-A901-4452EF5E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92A0-DEC0-47E9-9A92-49738554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3B3A-F135-435C-8BAE-43626DF4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1564-88C2-4EC1-9B13-5A2C9CD5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FA32-1307-437C-A11B-BDC7C8B3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9E91-427E-4C69-983B-6FCFFF688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B8F-9020-4085-8F04-F0AA058E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7BC-8C71-428A-A3AB-90A30007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2D68-F044-4084-8E0D-CA03443C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B00-C157-474C-B683-FD1068B6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735-8056-4880-B020-F34E8D4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DFD-4DB7-4AAC-BBA1-48882979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8612-C046-48A4-9123-366A9D37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04D8-80B1-4682-A8E9-5713CAF2CC9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74D2-DC1E-450D-94C3-F377ABAE3C5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24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AEN095112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崔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指導老師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趙惠雀 教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00000" y="692280"/>
            <a:ext cx="5832720" cy="13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領導統御與人際經營</a:t>
            </a: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--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細明體"/>
              </a:rPr>
              <a:t>軍訓期末報告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6600"/>
                </a:solidFill>
                <a:latin typeface="Arial"/>
                <a:ea typeface="標楷體"/>
              </a:rPr>
              <a:t>精妙溝通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引言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溝通，是一門藝術。人人需要，卻很少有人能精通此道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黑格爾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一個人不懂得消化的規律照樣可以吃飯，但是如果懂，他可以吃得更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亞里士多德：一個生活在社會之外的人，同人不發生關係的人，不是動物就是神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第一篇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培養溝通的理性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理性溝通的基本原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平等原則：平等待人是建立良好的人際關係的前提和基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艾森豪威爾將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信用原則：恪守信用，不僅是溝通的一個重要原則，更是做人的根基。孔子說：人而無信，不知其可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「季札掛劍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培養自信心：任何成功者都離不開自信，要培養自信心，就要明察自己的長處和短處。找出長處，利用自我擴大法，變成足以自豪的優點，縮短和對方的心理距離，就能增加自信心。同樣的，善於發現自己的短處，並以頑強的毅力加以克服，也可達到同樣的效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600" spc="-1" strike="noStrike">
                <a:solidFill>
                  <a:srgbClr val="000000"/>
                </a:solidFill>
                <a:latin typeface="Arial"/>
              </a:rPr>
              <a:t>美國總統羅斯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-53172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0066"/>
                </a:solidFill>
                <a:latin typeface="Arial"/>
              </a:rPr>
              <a:t>溝通的風度和魅力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風度：一個人的性格和氣質的外在表現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身體動作的風度：「坐如鐘， 站如松， 行如風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穿著打扮的風度：「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」著裝原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Time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時間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O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Object 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對象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  P: Place(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地點</a:t>
            </a: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Arial"/>
              </a:rPr>
              <a:t>魅力：一個人所具有的吸引人的力量。亞里士多德曾說，漂亮比一封介紹信更有推薦力。但是外表的漂亮並不是絕對，而一個人的內在素質有時候會影響他的外貌。正所謂「情人眼裡出西施」人與人之間內在素質的吸引力往往比外表的吸引力更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第二篇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---</a:t>
            </a:r>
            <a:r>
              <a:rPr b="1" lang="zh-TW" sz="3900" spc="-1" strike="noStrike">
                <a:solidFill>
                  <a:srgbClr val="330066"/>
                </a:solidFill>
                <a:latin typeface="Arial"/>
              </a:rPr>
              <a:t>改變命運的技巧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如何在溝通時獲取對方的好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廣記姓名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美國一位學者曾說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一種既簡單但又最重要的獲得好感的方法，就是牢記別人的姓名。」善於記住別人的姓名，既是一種禮貌，又是一種情感投資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尊重他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要做到尊重他人，首先必須平等地對待每一個人。心理學研究，人都有友愛和受尊敬的欲望，交友和受尊重的希望都非常強烈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英國戲劇家蕭伯納與蘇聯小姑娘的故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寬以待人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中國有句老話「嚴以律己，寬以待人」在溝通中，我們對他人的錯誤態度採取寬容的態度，也是取得他人好感的一條途徑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不輕下斷語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發明家愛迪生曾說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「有許多事，在我開始時以為是對的，可是經過實驗證明後又發現它錯了。所以任何一件事，最忌先有成見和主觀意識太強，必須慎思明辨，一但發現了錯誤，馬上把它改正過來。」這句話也告訴我們，不論遇到任何事情都不要忙著下定論，多進行一些思考，將會更容易贏得他人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與人為善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在日常生活中，樂於與人為善的人，總是更能得到人們的好感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zh-TW" sz="2100" spc="-1" strike="noStrike">
                <a:solidFill>
                  <a:srgbClr val="000000"/>
                </a:solidFill>
                <a:latin typeface="Arial"/>
              </a:rPr>
              <a:t>項羽與劉邦的成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6560" y="249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anks for your attention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8:12:38Z</dcterms:created>
  <dc:creator>Sean Tsui</dc:creator>
  <dc:description/>
  <dc:language>en-US</dc:language>
  <cp:lastModifiedBy>Sean Tsui</cp:lastModifiedBy>
  <dcterms:modified xsi:type="dcterms:W3CDTF">2009-06-11T06:16:27Z</dcterms:modified>
  <cp:revision>44</cp:revision>
  <dc:subject/>
  <dc:title>投影片 1</dc:title>
</cp:coreProperties>
</file>