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0FCB-41D0-4434-B77D-213D78C41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3C64-F4CE-4DBF-8E26-29794C752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BBA0-CFD7-4C95-A953-4A9F8C774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7F43-0289-4BA1-983E-ECBC0D7F9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075BA-AA3B-4BC1-B0DD-9E25C2B44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0B4F7-AFC9-40EC-A801-CB5C9B9B0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5D8A4-40D5-4EE4-9192-7278BA945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B3B33-05CC-4C39-9234-2FB3FBC0A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7380F-A46C-4BF0-92B4-84F680179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4B2E8-3C22-4CB0-A754-6459B8C0A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29304-EB81-4A8C-A96C-22951C85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21FC-A7BA-463D-8238-E5F5EEA46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0C479-36BF-4CC0-9D29-440DD949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A269A-182D-4CE3-8172-2F1B4732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1BBCF-38DE-45AC-B6C6-259C6D5CD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85CB3-E168-424A-A237-FAAEE34B2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F6E9F-2E14-4687-A3F9-5AB8E39FC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CC16-9638-4A91-AE2A-D8EA44190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7DDB-4D24-4480-A89A-FFCB0D107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874F-2055-47A7-BF7A-7121AB9F9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E7E3-9447-4CA1-B516-8B11128F7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90D1-5C66-4461-B8DD-745C3426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F0CC-E091-4378-B8AA-E54DB4F0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0B79-FB4F-4C09-8D26-B77DDC26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BD2B2-CE1D-4C29-B91C-DA66338AE511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330F2-1C96-4872-9878-0B61305BD966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3240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學生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: AEN095112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崔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指導老師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趙惠雀 教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00000" y="692280"/>
            <a:ext cx="5832720" cy="13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新細明體"/>
              </a:rPr>
              <a:t>領導統御與人際經營</a:t>
            </a: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新細明體"/>
              </a:rPr>
              <a:t>---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新細明體"/>
              <a:ea typeface="新細明體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新細明體"/>
              </a:rPr>
              <a:t>軍訓期末報告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新細明體"/>
              <a:ea typeface="新細明體"/>
            </a:endParaRPr>
          </a:p>
        </p:txBody>
      </p:sp>
      <p:sp>
        <p:nvSpPr>
          <p:cNvPr id="151" name=""/>
          <p:cNvSpPr/>
          <p:nvPr/>
        </p:nvSpPr>
        <p:spPr>
          <a:xfrm>
            <a:off x="611280" y="3500280"/>
            <a:ext cx="64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6600"/>
                </a:solidFill>
                <a:latin typeface="Arial"/>
                <a:ea typeface="標楷體"/>
              </a:rPr>
              <a:t>精妙溝通技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330066"/>
                </a:solidFill>
                <a:latin typeface="Arial"/>
              </a:rPr>
              <a:t>引言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溝通，是一門藝術。人人需要，卻很少有人能精通此道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黑格爾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一個人不懂得消化的規律照樣可以吃飯，但是如果懂，他可以吃得更好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亞里士多德：一個生活在社會之外的人，同人不發生關係的人，不是動物就是神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000" y="-31644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330066"/>
                </a:solidFill>
                <a:latin typeface="Arial"/>
              </a:rPr>
              <a:t>第一篇</a:t>
            </a:r>
            <a:r>
              <a:rPr b="1" lang="zh-TW" sz="4800" spc="-1" strike="noStrike">
                <a:solidFill>
                  <a:srgbClr val="330066"/>
                </a:solidFill>
                <a:latin typeface="Arial"/>
              </a:rPr>
              <a:t>---</a:t>
            </a:r>
            <a:r>
              <a:rPr b="1" lang="zh-TW" sz="4800" spc="-1" strike="noStrike">
                <a:solidFill>
                  <a:srgbClr val="330066"/>
                </a:solidFill>
                <a:latin typeface="Arial"/>
              </a:rPr>
              <a:t>培養溝通的理性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理性溝通的基本原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平等原則：平等待人是建立良好的人際關係的前提和基礎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Ex: 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美國艾森豪威爾將軍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信用原則：恪守信用，不僅是溝通的一個重要原則，更是做人的根基。孔子說：人而無信，不知其可也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Ex: 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「季札掛劍」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培養自信心：任何成功者都離不開自信，要培養自信心，就要明察自己的長處和短處。找出長處，利用自我擴大法，變成足以自豪的優點，縮短和對方的心理距離，就能增加自信心。同樣的，善於發現自己的短處，並以頑強的毅力加以克服，也可達到同樣的效果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Ex: 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美國總統羅斯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000" y="-53172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330066"/>
                </a:solidFill>
                <a:latin typeface="Arial"/>
              </a:rPr>
              <a:t>溝通的風度和魅力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87138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風度：一個人的性格和氣質的外在表現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身體動作的風度：「坐如鐘， 站如松， 行如風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穿著打扮的風度：「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TOP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」著裝原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Time 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時間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 O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Object 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對象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  P: Place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地點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魅力：一個人所具有的吸引人的力量。亞里士多德曾說，漂亮比一封介紹信更有推薦力。但是外表的漂亮並不是絕對，而一個人的內在素質有時候會影響他的外貌。正所謂「情人眼裡出西施」人與人之間內在素質的吸引力往往比外表的吸引力更強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330066"/>
                </a:solidFill>
                <a:latin typeface="Arial"/>
              </a:rPr>
              <a:t>第二篇</a:t>
            </a:r>
            <a:r>
              <a:rPr b="1" lang="zh-TW" sz="3900" spc="-1" strike="noStrike">
                <a:solidFill>
                  <a:srgbClr val="330066"/>
                </a:solidFill>
                <a:latin typeface="Arial"/>
              </a:rPr>
              <a:t>---</a:t>
            </a:r>
            <a:r>
              <a:rPr b="1" lang="zh-TW" sz="3900" spc="-1" strike="noStrike">
                <a:solidFill>
                  <a:srgbClr val="330066"/>
                </a:solidFill>
                <a:latin typeface="Arial"/>
              </a:rPr>
              <a:t>改變命運的技巧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如何在溝通時獲取對方的好感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廣記姓名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美國一位學者曾說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「一種既簡單但又最重要的獲得好感的方法，就是牢記別人的姓名。」善於記住別人的姓名，既是一種禮貌，又是一種情感投資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尊重他人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要做到尊重他人，首先必須平等地對待每一個人。心理學研究，人都有友愛和受尊敬的欲望，交友和受尊重的希望都非常強烈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Ex: 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英國戲劇家蕭伯納與蘇聯小姑娘的故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寬以待人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中國有句老話「嚴以律己，寬以待人」在溝通中，我們對他人的錯誤態度採取寬容的態度，也是取得他人好感的一條途徑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不輕下斷語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發明家愛迪生曾說 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「有許多事，在我開始時以為是對的，可是經過實驗證明後又發現它錯了。所以任何一件事，最忌先有成見和主觀意識太強，必須慎思明辨，一但發現了錯誤，馬上把它改正過來。」這句話也告訴我們，不論遇到任何事情都不要忙著下定論，多進行一些思考，將會更容易贏得他人的好感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與人為善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在日常生活中，樂於與人為善的人，總是更能得到人們的好感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Ex: 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項羽與劉邦的成敗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6560" y="2491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anks for your attention!!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3T08:12:38Z</dcterms:created>
  <dc:creator>Sean Tsui</dc:creator>
  <dc:description/>
  <dc:language>en-US</dc:language>
  <cp:lastModifiedBy>Sean Tsui</cp:lastModifiedBy>
  <dcterms:modified xsi:type="dcterms:W3CDTF">2009-06-11T06:16:27Z</dcterms:modified>
  <cp:revision>44</cp:revision>
  <dc:subject/>
  <dc:title>投影片 1</dc:title>
</cp:coreProperties>
</file>