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B82F-25B1-4388-B864-9A07B8CD4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837E-D4C6-4A47-BC4C-51C7D62A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6694-CD27-4836-B498-283B53355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5DA6-2CFF-4F5E-A321-ED9F9859D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985F-A18D-4198-AA7E-495E319CD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6760C-2077-4FD0-8C33-16B4112E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BE99-14F7-466C-BCDF-97C89EF2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C854-4503-4CA3-8693-40E98F11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A76A7-B885-4F53-AE0C-4821A173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B08C-9026-49CD-8C9F-A5F18230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75FDB-5E66-4B37-94F8-AA56E9E2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021A-CC2A-4498-A113-2B87C849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7093-9AD4-4E72-B4FA-9A2D4B0F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C12E-F4C5-46FD-B2B7-606D3081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F87F-6FB9-4EA9-A734-E2B99898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A821-C301-4EA8-A085-6D89F81AE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2EA1-347B-4A20-9B2C-83653D9D5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64CE-7AED-4C87-9316-2B7D1AC5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A6A4-6F0D-4B6D-A058-DEC5D321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2F0D-A932-4495-9BA3-F2A12B43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5ACA-6FF7-4C97-BAE1-59707747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A485-8028-40E2-861F-8217D86A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EB97-915D-41F5-921B-B556E3DA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6804-49B9-4844-8425-D01421D3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59F4-9E9C-4710-BDD3-B4D9F3950540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E3AA-CA25-4596-956B-722252547BC7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24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學生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: AEN095112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崔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指導老師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趙惠雀 教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00000" y="692280"/>
            <a:ext cx="5832720" cy="13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新細明體"/>
              </a:rPr>
              <a:t>領導統御與人際經營</a:t>
            </a: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新細明體"/>
              </a:rPr>
              <a:t>---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新細明體"/>
              </a:rPr>
              <a:t>軍訓期末報告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3500280"/>
            <a:ext cx="64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6600"/>
                </a:solidFill>
                <a:latin typeface="Arial"/>
                <a:ea typeface="標楷體"/>
              </a:rPr>
              <a:t>精妙溝通技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330066"/>
                </a:solidFill>
                <a:latin typeface="Arial"/>
              </a:rPr>
              <a:t>引言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溝通，是一門藝術。人人需要，卻很少有人能精通此道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黑格爾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一個人不懂得消化的規律照樣可以吃飯，但是如果懂，他可以吃得更好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亞里士多德：一個生活在社會之外的人，同人不發生關係的人，不是動物就是神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000" y="-31644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330066"/>
                </a:solidFill>
                <a:latin typeface="Arial"/>
              </a:rPr>
              <a:t>第一篇</a:t>
            </a:r>
            <a:r>
              <a:rPr b="1" lang="zh-TW" sz="4800" spc="-1" strike="noStrike">
                <a:solidFill>
                  <a:srgbClr val="330066"/>
                </a:solidFill>
                <a:latin typeface="Arial"/>
              </a:rPr>
              <a:t>---</a:t>
            </a:r>
            <a:r>
              <a:rPr b="1" lang="zh-TW" sz="4800" spc="-1" strike="noStrike">
                <a:solidFill>
                  <a:srgbClr val="330066"/>
                </a:solidFill>
                <a:latin typeface="Arial"/>
              </a:rPr>
              <a:t>培養溝通的理性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理性溝通的基本原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平等原則：平等待人是建立良好的人際關係的前提和基礎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美國艾森豪威爾將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信用原則：恪守信用，不僅是溝通的一個重要原則，更是做人的根基。孔子說：人而無信，不知其可也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「季札掛劍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培養自信心：任何成功者都離不開自信，要培養自信心，就要明察自己的長處和短處。找出長處，利用自我擴大法，變成足以自豪的優點，縮短和對方的心理距離，就能增加自信心。同樣的，善於發現自己的短處，並以頑強的毅力加以克服，也可達到同樣的效果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美國總統羅斯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-53172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330066"/>
                </a:solidFill>
                <a:latin typeface="Arial"/>
              </a:rPr>
              <a:t>溝通的風度和魅力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7138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風度：一個人的性格和氣質的外在表現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身體動作的風度：「坐如鐘， 站如松， 行如風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穿著打扮的風度：「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TOP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」著裝原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Time 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時間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 O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Object 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對象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  P: Place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地點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魅力：一個人所具有的吸引人的力量。亞里士多德曾說，漂亮比一封介紹信更有推薦力。但是外表的漂亮並不是絕對，而一個人的內在素質有時候會影響他的外貌。正所謂「情人眼裡出西施」人與人之間內在素質的吸引力往往比外表的吸引力更強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330066"/>
                </a:solidFill>
                <a:latin typeface="Arial"/>
              </a:rPr>
              <a:t>第二篇</a:t>
            </a:r>
            <a:r>
              <a:rPr b="1" lang="zh-TW" sz="3900" spc="-1" strike="noStrike">
                <a:solidFill>
                  <a:srgbClr val="330066"/>
                </a:solidFill>
                <a:latin typeface="Arial"/>
              </a:rPr>
              <a:t>---</a:t>
            </a:r>
            <a:r>
              <a:rPr b="1" lang="zh-TW" sz="3900" spc="-1" strike="noStrike">
                <a:solidFill>
                  <a:srgbClr val="330066"/>
                </a:solidFill>
                <a:latin typeface="Arial"/>
              </a:rPr>
              <a:t>改變命運的技巧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如何在溝通時獲取對方的好感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廣記姓名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美國一位學者曾說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「一種既簡單但又最重要的獲得好感的方法，就是牢記別人的姓名。」善於記住別人的姓名，既是一種禮貌，又是一種情感投資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尊重他人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要做到尊重他人，首先必須平等地對待每一個人。心理學研究，人都有友愛和受尊敬的欲望，交友和受尊重的希望都非常強烈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英國戲劇家蕭伯納與蘇聯小姑娘的故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寬以待人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中國有句老話「嚴以律己，寬以待人」在溝通中，我們對他人的錯誤態度採取寬容的態度，也是取得他人好感的一條途徑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不輕下斷語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發明家愛迪生曾說 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「有許多事，在我開始時以為是對的，可是經過實驗證明後又發現它錯了。所以任何一件事，最忌先有成見和主觀意識太強，必須慎思明辨，一但發現了錯誤，馬上把它改正過來。」這句話也告訴我們，不論遇到任何事情都不要忙著下定論，多進行一些思考，將會更容易贏得他人的好感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與人為善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在日常生活中，樂於與人為善的人，總是更能得到人們的好感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項羽與劉邦的成敗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6560" y="2491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anks for your attention!!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08:12:38Z</dcterms:created>
  <dc:creator>Sean Tsui</dc:creator>
  <dc:description/>
  <dc:language>en-US</dc:language>
  <cp:lastModifiedBy>Sean Tsui</cp:lastModifiedBy>
  <dcterms:modified xsi:type="dcterms:W3CDTF">2009-06-11T06:16:27Z</dcterms:modified>
  <cp:revision>44</cp:revision>
  <dc:subject/>
  <dc:title>投影片 1</dc:title>
</cp:coreProperties>
</file>