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342-243A-4798-995D-0F43493B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69E-A373-4A49-A1DD-9FD12869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8A8-C0F9-44DC-A60E-DD353DE7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3D0-58A0-4256-B291-3600BECE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58FA-7CD4-4F73-A83B-710861B2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4A8F-6452-499B-823B-0932C81C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06B6-C8CA-4804-9F2B-279D36DE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65D2-57C3-4CC9-B3AE-A80CB8CB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A3E7-D5DB-4DCA-A223-A887132C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D174-7112-4098-93F6-7A96A080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C913-7D60-48A5-A6F8-DA9788FE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C55-4945-4562-873E-8B93B380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4BB8-68F5-4EA3-A2A9-629C86F4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AE34-03A2-4487-A652-9D23A8F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ACC7-1819-4E80-9044-BA3F87DC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D22B-1293-41FC-A39A-CF646941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A650-2668-4306-AD1A-B1E94888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AD7-B5EF-4CCC-8B50-84722E8D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177-37E6-48A1-9639-32BFE449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BD8-8E3D-4819-B19B-749D8635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D41-0918-4F55-A8F2-8274EB61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06D-6A04-4137-984E-B15D1F0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672-EEE4-42EA-8B61-594C311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ACB-0922-4227-B302-C4F21A37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D834-0C14-49FB-B07D-592B6D2A0D0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EBA2-8FEF-4588-9B77-EC14092FE15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AEN095112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崔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指導老師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惠雀 教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692280"/>
            <a:ext cx="5832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領導統御與人際經營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--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軍訓期末報告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6600"/>
                </a:solidFill>
                <a:latin typeface="Arial"/>
                <a:ea typeface="標楷體"/>
              </a:rPr>
              <a:t>精妙溝通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引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溝通，是一門藝術。人人需要，卻很少有人能精通此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黑格爾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個人不懂得消化的規律照樣可以吃飯，但是如果懂，他可以吃得更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亞里士多德：一個生活在社會之外的人，同人不發生關係的人，不是動物就是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第一篇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培養溝通的理性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理性溝通的基本原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平等原則：平等待人是建立良好的人際關係的前提和基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艾森豪威爾將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信用原則：恪守信用，不僅是溝通的一個重要原則，更是做人的根基。孔子說：人而無信，不知其可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季札掛劍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培養自信心：任何成功者都離不開自信，要培養自信心，就要明察自己的長處和短處。找出長處，利用自我擴大法，變成足以自豪的優點，縮短和對方的心理距離，就能增加自信心。同樣的，善於發現自己的短處，並以頑強的毅力加以克服，也可達到同樣的效果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總統羅斯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-53172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溝通的風度和魅力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風度：一個人的性格和氣質的外在表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身體動作的風度：「坐如鐘， 站如松， 行如風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穿著打扮的風度：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著裝原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O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Object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對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 P: Place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魅力：一個人所具有的吸引人的力量。亞里士多德曾說，漂亮比一封介紹信更有推薦力。但是外表的漂亮並不是絕對，而一個人的內在素質有時候會影響他的外貌。正所謂「情人眼裡出西施」人與人之間內在素質的吸引力往往比外表的吸引力更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第二篇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改變命運的技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如何在溝通時獲取對方的好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廣記姓名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美國一位學者曾說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一種既簡單但又最重要的獲得好感的方法，就是牢記別人的姓名。」善於記住別人的姓名，既是一種禮貌，又是一種情感投資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尊重他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要做到尊重他人，首先必須平等地對待每一個人。心理學研究，人都有友愛和受尊敬的欲望，交友和受尊重的希望都非常強烈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英國戲劇家蕭伯納與蘇聯小姑娘的故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寬以待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中國有句老話「嚴以律己，寬以待人」在溝通中，我們對他人的錯誤態度採取寬容的態度，也是取得他人好感的一條途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不輕下斷語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發明家愛迪生曾說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有許多事，在我開始時以為是對的，可是經過實驗證明後又發現它錯了。所以任何一件事，最忌先有成見和主觀意識太強，必須慎思明辨，一但發現了錯誤，馬上把它改正過來。」這句話也告訴我們，不論遇到任何事情都不要忙著下定論，多進行一些思考，將會更容易贏得他人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與人為善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在日常生活中，樂於與人為善的人，總是更能得到人們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項羽與劉邦的成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attention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8:12:38Z</dcterms:created>
  <dc:creator>Sean Tsui</dc:creator>
  <dc:description/>
  <dc:language>en-US</dc:language>
  <cp:lastModifiedBy>Sean Tsui</cp:lastModifiedBy>
  <dcterms:modified xsi:type="dcterms:W3CDTF">2009-06-11T06:16:27Z</dcterms:modified>
  <cp:revision>44</cp:revision>
  <dc:subject/>
  <dc:title>投影片 1</dc:title>
</cp:coreProperties>
</file>